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A4D0-59F2-491C-AB3E-64BAF9E2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379-61C5-4818-9EC6-F29C2AF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78F-B1DF-4848-9A43-A585B01E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30C-8504-4423-ADAB-DB4B3585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E38-4C39-48A8-8436-FADBE926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F9E-10C2-415D-922A-C29CDA22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F19-C46F-45EE-8630-61282C14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379-C4CD-45BB-AD14-E5009F56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FEE-2F6D-40FC-A003-53A5D8B7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248-D1A4-4522-BD40-7F07DCAA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C087-DCE0-4D36-AF90-B55934F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A92-BB4B-43E9-8402-4869F90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99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2353-A2D5-40FD-AAEC-E31416095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5:45:00Z</dcterms:created>
  <dc:creator>768984</dc:creator>
  <dc:description/>
  <dc:language>en-US</dc:language>
  <cp:lastModifiedBy>768984</cp:lastModifiedBy>
  <dcterms:modified xsi:type="dcterms:W3CDTF">2009-04-17T15:51:14Z</dcterms:modified>
  <cp:revision>4</cp:revision>
  <dc:subject/>
  <dc:title>Slide 1</dc:title>
</cp:coreProperties>
</file>